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7A9-7204-46E9-BAAB-4A70E57A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8DB1-6F60-41D3-9B08-E0423494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B71C-308C-4DE1-86C8-D2D74153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E68-C999-4364-A202-D4E22F35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326E-CC6D-4100-8E48-CCD7C1A4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7DF-0F1B-447B-85DA-45C86AB8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C34-E2BE-464B-A322-704E62C6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38B1-10BF-4736-9100-1C5AEE13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AB64-A08B-4E0A-9389-CF57AA52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EEE-FD6C-4928-9AE3-76F1495D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541F-77C6-4204-A0C4-D39A506C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F6D-C96A-4DB0-AA98-DBE42F55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AC2A-DE41-4F8F-8608-CE04054AF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48320" y="106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6200" y="609480"/>
            <a:ext cx="605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1332000"/>
            <a:ext cx="777240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881360"/>
            <a:ext cx="77724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22960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7724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77724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820800"/>
            <a:ext cx="777240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803160"/>
            <a:ext cx="777240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814320"/>
            <a:ext cx="77724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714240"/>
            <a:ext cx="77724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2392200"/>
            <a:ext cx="77724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2467080"/>
            <a:ext cx="77724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957320"/>
            <a:ext cx="77724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197000"/>
            <a:ext cx="434340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927080"/>
            <a:ext cx="77724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335320"/>
            <a:ext cx="777240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1:32:00Z</dcterms:created>
  <dc:creator>PSD</dc:creator>
  <dc:description/>
  <dc:language>en-US</dc:language>
  <cp:lastModifiedBy>Parkland High School</cp:lastModifiedBy>
  <dcterms:modified xsi:type="dcterms:W3CDTF">2011-01-03T00:41:54Z</dcterms:modified>
  <cp:revision>4</cp:revision>
  <dc:subject/>
  <dc:title>4.6</dc:title>
</cp:coreProperties>
</file>